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0DF4-623D-4923-B3EA-DD099304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1915-FB13-4C3A-9B61-6A28C9DF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546E-D03B-4F34-A414-555D79988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5A2E-BE8E-4789-B3BA-BD61B8363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A9DF-7943-4C90-9DFD-949FAF9AC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748E-4B67-4F31-8B70-24A1EE45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62B7-C009-49B5-A948-572256FF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A22C-739F-4E8E-978B-237C8BAC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FC4C-9F7B-43D5-BAA0-1D5282F9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868B-7809-4AA2-8CEA-9F567C7F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F04F-4AE9-4948-A1C8-4AB3EE95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E659-F2A0-4536-812F-27EA0921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D59F-4FA4-4901-90F8-05ED5366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71BF-EF1E-404D-A2A4-96CA6D29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E3F2-CE39-4B5D-ADDE-60ECD059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E23F-00D8-4CCD-AB53-E003E6B42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EB78-778C-4F7D-84A1-A40049D1C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B9D7-630C-4689-90B8-D50242C8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1065-6B06-41A0-BA0F-15CF6A9A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696C-3D69-40DB-800C-02A141D3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5071-6CF5-4C93-AAFC-3519930D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A812-C241-46F3-AB59-E64A762C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4374-6A3B-470C-A416-19EFC4FD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1D41-FFAC-44CF-9046-25E109E2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7AB9-C3F8-4109-AC19-2891FD9835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70AE-EC4B-4206-AB66-B7C258792E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7467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ff"/>
                </a:solidFill>
                <a:latin typeface="Arial Black"/>
              </a:rPr>
              <a:t>Lesson #8</a:t>
            </a:r>
            <a:br>
              <a:rPr sz="2400"/>
            </a:br>
            <a:r>
              <a:rPr b="0" lang="en-US" sz="2400" spc="-1" strike="noStrike">
                <a:solidFill>
                  <a:srgbClr val="d9d9ff"/>
                </a:solidFill>
                <a:latin typeface="Arial Black"/>
              </a:rPr>
              <a:t>Topic: Lab #1 Rotation</a:t>
            </a:r>
            <a:endParaRPr b="1" lang="en-US" sz="2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0773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jectives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fter this class I will be able t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00"/>
              </a:spcBef>
              <a:buClr>
                <a:srgbClr val="99f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ome familiar with new lab proced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00"/>
              </a:spcBef>
              <a:buClr>
                <a:srgbClr val="99f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ment to solve f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compare to calculated value f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/11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51814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sign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Mechanics of Rotati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3886200"/>
            <a:ext cx="8077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ab Task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ify that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r</a:t>
            </a:r>
            <a:r>
              <a:rPr b="1" i="1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or a uniform cylinder rotating about a central ax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-68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s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fter this class I will be able t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99"/>
              </a:spcBef>
              <a:buClr>
                <a:srgbClr val="99f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e all types of rotation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99"/>
              </a:spcBef>
              <a:buClr>
                <a:srgbClr val="99f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all concepts of ro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99"/>
              </a:spcBef>
              <a:buClr>
                <a:srgbClr val="99f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ve any rotational physics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457200"/>
            <a:ext cx="5715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ff"/>
                </a:solidFill>
                <a:latin typeface="Arial Black"/>
              </a:rPr>
              <a:t>Lesson #9</a:t>
            </a:r>
            <a:br>
              <a:rPr sz="2400"/>
            </a:br>
            <a:r>
              <a:rPr b="0" lang="en-US" sz="2400" spc="-1" strike="noStrike">
                <a:solidFill>
                  <a:srgbClr val="d9d9ff"/>
                </a:solidFill>
                <a:latin typeface="Arial Black"/>
              </a:rPr>
              <a:t>Topic: Exam 1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/13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548640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sign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“Rotational Exam Review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38098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arm U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The net work done in accelerating a propeller from rest to an angular speed of 220 rad/s is 3000 J. What is the rotational inertia of the propeller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Torque practice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7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99f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adder of length 2.0m and mass 1.0kg is leaning against the wall such that the ladder makes an angle of pi/3 with respect to the floor. With what horizontal force must I exert on the bottom of the ladder to prevent it from slipping and falling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ume no friction between the ladder and the wall or floo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3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1.05kg ball on the end of a string is rotated in a horizontal circle of radius 0.9m. Calculate the rotational inertia, and torque needed to maintain a constant angular velocity if air resistance exerts a force of .08N onto the ba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Torque practice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7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order to get a flat uniform cylindrical satellite spinning at the correct rate, engineers fire four tangential rockets. If the satellite has a mass of 2600kg and a radius of 3m, what is the required steady force of each rocket if the satellite is to reach 30rpm in 5 mi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4114800"/>
            <a:ext cx="2666880" cy="23623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5867280" y="5028840"/>
            <a:ext cx="457200" cy="304920"/>
          </a:xfrm>
          <a:custGeom>
            <a:avLst/>
            <a:gdLst>
              <a:gd name="textAreaLeft" fmla="*/ 0 w 457200"/>
              <a:gd name="textAreaRight" fmla="*/ 45756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2895120" y="5105160"/>
            <a:ext cx="457200" cy="304920"/>
          </a:xfrm>
          <a:custGeom>
            <a:avLst/>
            <a:gdLst>
              <a:gd name="textAreaLeft" fmla="*/ 0 w 457200"/>
              <a:gd name="textAreaRight" fmla="*/ 45756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343400" y="3809520"/>
            <a:ext cx="457200" cy="304920"/>
          </a:xfrm>
          <a:custGeom>
            <a:avLst/>
            <a:gdLst>
              <a:gd name="textAreaLeft" fmla="*/ 0 w 457200"/>
              <a:gd name="textAreaRight" fmla="*/ 45756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86240" y="6477120"/>
            <a:ext cx="457200" cy="228600"/>
          </a:xfrm>
          <a:custGeom>
            <a:avLst/>
            <a:gdLst>
              <a:gd name="textAreaLeft" fmla="*/ 0 w 457200"/>
              <a:gd name="textAreaRight" fmla="*/ 457560 w 457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47242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47242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19920" y="54864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3886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40384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665784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652464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7:39:45Z</dcterms:created>
  <dc:creator>End User</dc:creator>
  <dc:description/>
  <dc:language>en-US</dc:language>
  <cp:lastModifiedBy> Matthew Shrader</cp:lastModifiedBy>
  <dcterms:modified xsi:type="dcterms:W3CDTF">2006-09-10T19:23:10Z</dcterms:modified>
  <cp:revision>28</cp:revision>
  <dc:subject/>
  <dc:title>Lesson #1 8/29/06 </dc:title>
</cp:coreProperties>
</file>